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jeop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6EE-97C2-4B40-A529-82B1D20B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BCD-25E2-470D-851C-943A11BC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4E7-D2BE-48D0-9850-8C9EFEE0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CCF-6218-475E-AA9D-40F26069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BFA2-93B3-4A04-822B-7DCC3D07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520A-1E39-46B7-9AC3-13C5A7B3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57CB-D74D-4273-AB89-5760559E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77C8-B162-408E-BF68-29E4CA40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AC04-0B1C-4460-A922-B5AFD244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09B0-415D-4BE3-B087-51F8CD08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64DF-6AF0-42BA-9C1D-703F41C8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31F-9A8D-4983-A923-1C41B634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1B14-FD80-464D-9FD4-8DB01A4F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8275-F6BB-495E-A7E7-3DA5336D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882F-F04C-4764-85F9-CF1D49E8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5A08-E20C-43A1-928D-51545740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A225-DAE8-4AEC-A779-A33A59C9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2BF-F6AC-4381-B6D8-9EDB2D1E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416-1560-4CB6-854B-3C6287E0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5EA-8CA9-4357-BA53-C9836F15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1C9-4F93-404B-8D9D-DF9FA75F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011-4DFD-41DD-8454-6919738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A6B-2931-4C5E-B43D-1522C940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89B-E3FA-479E-93B2-30464C83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8ae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E756-3229-4EEB-95FC-D6ED9CE9C4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8ae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505F-8CC4-42D4-B1EE-7301BA825B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0200" y="320400"/>
            <a:ext cx="77580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fe1ff"/>
                </a:solidFill>
                <a:latin typeface="Arial"/>
              </a:rPr>
              <a:t>Jeopardy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533520" y="167652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5"/>
          <p:cNvSpPr/>
          <p:nvPr/>
        </p:nvSpPr>
        <p:spPr>
          <a:xfrm>
            <a:off x="2362320" y="17524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Times New Roman"/>
              </a:rPr>
              <a:t>True or False?</a:t>
            </a: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581280" y="1905120"/>
            <a:ext cx="252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ae"/>
                </a:solidFill>
                <a:latin typeface="Times New Roman"/>
              </a:rPr>
              <a:t>Whic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68ae"/>
                </a:solidFill>
                <a:latin typeface="Times New Roman"/>
              </a:rPr>
              <a:t>wor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68ae"/>
                </a:solidFill>
                <a:latin typeface="Times New Roman"/>
              </a:rPr>
              <a:t>is right?</a:t>
            </a:r>
            <a:endParaRPr b="0" lang="en-US" sz="1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393880" y="18018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Times New Roman"/>
              </a:rPr>
              <a:t>Spelling</a:t>
            </a: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704280" y="1752480"/>
            <a:ext cx="14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Times New Roman"/>
              </a:rPr>
              <a:t>Th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8ae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8ae"/>
                </a:solidFill>
                <a:latin typeface="Times New Roman"/>
              </a:rPr>
              <a:t>that?</a:t>
            </a: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4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4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4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4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44" name="Text Box 48"/>
          <p:cNvSpPr/>
          <p:nvPr/>
        </p:nvSpPr>
        <p:spPr>
          <a:xfrm>
            <a:off x="914400" y="16765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45" name="Text Box 49"/>
          <p:cNvSpPr/>
          <p:nvPr/>
        </p:nvSpPr>
        <p:spPr>
          <a:xfrm>
            <a:off x="91440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Defini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Question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1893960" y="3168720"/>
            <a:ext cx="55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coup d etat mean?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1892520" y="3168720"/>
            <a:ext cx="575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udden decisive exercise of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thority in politics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100 Question from True or fal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1901520" y="316872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ast tense of lead is leaded?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3892680" y="1676520"/>
            <a:ext cx="114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d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200 Question from True or fal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1878840" y="316872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can’t use nor with neither.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3884400" y="182880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300 Question from True or fal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1763640" y="1981080"/>
            <a:ext cx="58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tter’s field is a public place for unknown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ople and for families.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4045320" y="17524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400 Question from True or fal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4"/>
          <p:cNvSpPr/>
          <p:nvPr/>
        </p:nvSpPr>
        <p:spPr>
          <a:xfrm>
            <a:off x="1915920" y="3168720"/>
            <a:ext cx="656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Rochester, Minnesota, the male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yo clinic is a hospital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4120920" y="1828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Question from definition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1893240" y="3168720"/>
            <a:ext cx="43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palindrome?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500 Question from True or fal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1924560" y="3168720"/>
            <a:ext cx="644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rogative means a special right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privilege because of age, class,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children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1921680" y="3168720"/>
            <a:ext cx="577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se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ldren is not correct it could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 rank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100 Question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1889280" y="3168720"/>
            <a:ext cx="616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ink shirt _____ his maroon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weater.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lement                                 - compliment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100 Answer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3355920" y="251460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liment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200 Question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1887840" y="3317760"/>
            <a:ext cx="53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have way ____ many dogs in my house.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o                     -too                     - two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200 Answer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4"/>
          <p:cNvSpPr/>
          <p:nvPr/>
        </p:nvSpPr>
        <p:spPr>
          <a:xfrm>
            <a:off x="4345200" y="21337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o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300 Question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2819520" y="2209680"/>
            <a:ext cx="31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____ this gift.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accept     - except 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300 Answer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3886920" y="22860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400 Question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1923120" y="3168720"/>
            <a:ext cx="652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we ____ with class, I must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ke attendance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Precede               - Proceed 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400 Answer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4"/>
          <p:cNvSpPr/>
          <p:nvPr/>
        </p:nvSpPr>
        <p:spPr>
          <a:xfrm>
            <a:off x="3591360" y="266688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ceed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685800" y="18288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alindrome is a word, number, verse, or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tence that reads the same forward or backward.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500 Question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"/>
          <p:cNvSpPr/>
          <p:nvPr/>
        </p:nvSpPr>
        <p:spPr>
          <a:xfrm>
            <a:off x="1910880" y="3168720"/>
            <a:ext cx="48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______ has a round dome on top.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ital                           -Capitol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500 Answer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3972240" y="2286000"/>
            <a:ext cx="15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ol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Question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4"/>
          <p:cNvSpPr/>
          <p:nvPr/>
        </p:nvSpPr>
        <p:spPr>
          <a:xfrm>
            <a:off x="1910880" y="3168720"/>
            <a:ext cx="42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pell ….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3583440" y="175248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ready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Question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4"/>
          <p:cNvSpPr/>
          <p:nvPr/>
        </p:nvSpPr>
        <p:spPr>
          <a:xfrm>
            <a:off x="1909080" y="31687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pell…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Question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1909080" y="31687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pell…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Question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1909080" y="31687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pell…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Question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236232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 word means fashionable, stylish, topped with ice cream?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Question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4"/>
          <p:cNvSpPr/>
          <p:nvPr/>
        </p:nvSpPr>
        <p:spPr>
          <a:xfrm>
            <a:off x="1911600" y="3168720"/>
            <a:ext cx="43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pell……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Question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4"/>
          <p:cNvSpPr/>
          <p:nvPr/>
        </p:nvSpPr>
        <p:spPr>
          <a:xfrm>
            <a:off x="1923840" y="3168720"/>
            <a:ext cx="708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.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acts like he doesn’t feel well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acts like he doesn’t feel good.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1922400" y="3168720"/>
            <a:ext cx="67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He acts like he doesn’t feel well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Question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"/>
          <p:cNvSpPr/>
          <p:nvPr/>
        </p:nvSpPr>
        <p:spPr>
          <a:xfrm>
            <a:off x="1708920" y="1676520"/>
            <a:ext cx="573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lass members did all the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corating _____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.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mselfs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mselves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sself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4"/>
          <p:cNvSpPr/>
          <p:nvPr/>
        </p:nvSpPr>
        <p:spPr>
          <a:xfrm>
            <a:off x="2679840" y="1905120"/>
            <a:ext cx="304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- Themselves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Question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4"/>
          <p:cNvSpPr/>
          <p:nvPr/>
        </p:nvSpPr>
        <p:spPr>
          <a:xfrm>
            <a:off x="1908000" y="3168720"/>
            <a:ext cx="319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..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 me b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ve me b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4"/>
          <p:cNvSpPr/>
          <p:nvPr/>
        </p:nvSpPr>
        <p:spPr>
          <a:xfrm>
            <a:off x="2988720" y="2286000"/>
            <a:ext cx="29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- leave me b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Question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4"/>
          <p:cNvSpPr/>
          <p:nvPr/>
        </p:nvSpPr>
        <p:spPr>
          <a:xfrm>
            <a:off x="1897560" y="3168720"/>
            <a:ext cx="230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ells when?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1899000" y="316872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- then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3431520" y="22096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a mod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Question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"/>
          <p:cNvSpPr/>
          <p:nvPr/>
        </p:nvSpPr>
        <p:spPr>
          <a:xfrm>
            <a:off x="1901880" y="3168720"/>
            <a:ext cx="367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alking about heath?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ck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ll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4"/>
          <p:cNvSpPr/>
          <p:nvPr/>
        </p:nvSpPr>
        <p:spPr>
          <a:xfrm>
            <a:off x="3438360" y="198108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- well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nal Jeopard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pic>
        <p:nvPicPr>
          <p:cNvPr id="399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nal Jeopardy Answe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0068ae"/>
              </a:solidFill>
              <a:latin typeface="Times New Roman"/>
            </a:endParaRPr>
          </a:p>
        </p:txBody>
      </p:sp>
      <p:pic>
        <p:nvPicPr>
          <p:cNvPr id="403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Question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893240" y="3168720"/>
            <a:ext cx="51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Escargot mean?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1679040" y="3200400"/>
            <a:ext cx="48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nail prepared as food.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Question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585440" y="3124080"/>
            <a:ext cx="59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word means to have a thick slice of beef cut from </a:t>
            </a: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narrow end of a tenderloin?</a:t>
            </a: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425304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895480" y="27432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let mignon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50</cp:lastModifiedBy>
  <dcterms:modified xsi:type="dcterms:W3CDTF">2010-05-19T18:47:12Z</dcterms:modified>
  <cp:revision>22</cp:revision>
  <dc:subject/>
  <dc:title>Jeopardy</dc:title>
</cp:coreProperties>
</file>